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1.png" ContentType="image/png"/>
  <Override PartName="/ppt/media/image6.wmf" ContentType="image/x-wmf"/>
  <Override PartName="/ppt/media/image19.jpeg" ContentType="image/jpeg"/>
  <Override PartName="/ppt/media/image10.jpeg" ContentType="image/jpeg"/>
  <Override PartName="/ppt/media/image13.wmf" ContentType="image/x-wmf"/>
  <Override PartName="/ppt/media/image5.png" ContentType="image/png"/>
  <Override PartName="/ppt/media/image8.wmf" ContentType="image/x-wmf"/>
  <Override PartName="/ppt/media/image7.png" ContentType="image/png"/>
  <Override PartName="/ppt/media/image15.wmf" ContentType="image/x-wmf"/>
  <Override PartName="/ppt/media/image4.wmf" ContentType="image/x-wmf"/>
  <Override PartName="/ppt/media/image24.png" ContentType="image/png"/>
  <Override PartName="/ppt/media/image22.wmf" ContentType="image/x-wmf"/>
  <Override PartName="/ppt/media/image21.wmf" ContentType="image/x-wmf"/>
  <Override PartName="/ppt/media/image23.jpeg" ContentType="image/jpe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wmf" ContentType="image/x-wmf"/>
  <Override PartName="/ppt/media/image9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6457-C97B-4185-B799-8BEA16A87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4526-7A75-4B2A-B1F8-8C0ADAEF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7B05-D976-4D50-BDA6-59AEB14E8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66FE-B482-4487-887D-912DE1156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6030-E65D-433F-9C5B-B82FD677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E021-D85E-4ACB-950D-8306DAE7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B1AD-F18A-4CA3-A6B7-8960665F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0857-CD1F-4198-85C3-FFE62C2B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4931-A105-4D2A-AADA-FE84F326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7804-9410-4C94-AC20-D5586085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DAC9-393D-4132-A87F-CE15A1A4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1B81-697E-4467-8754-7249FEBB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5F56-E1C9-4856-B7CC-CB3BBA12D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2.wmf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228960" y="685800"/>
            <a:ext cx="61722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ff0000"/>
                </a:solidFill>
                <a:latin typeface="KidTYPEPaint"/>
              </a:rPr>
              <a:t>Dear Sa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4343040"/>
            <a:ext cx="571500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tters from St Jude                                                  Kindergarten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33720" y="2209680"/>
            <a:ext cx="1724040" cy="1849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71600" y="6553080"/>
            <a:ext cx="41911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ssisted by Art &amp; Technology Students Grades 5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5558040" cy="7277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359000" y="2438280"/>
            <a:ext cx="4000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Dear Santa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This year for Christmas I want Mouse Trap and Action Cruiser. I was wondering why do you have a workshop?  Have a good time delivering presents.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      I live with a happy family in South Bend,  Indiana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                  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Your Pal,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Cameron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Papyru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33520" y="6781680"/>
            <a:ext cx="25146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6043680" cy="8229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43000" y="1828800"/>
            <a:ext cx="4572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ar Santa, I would like the dolls from high school musical, and a cooking mama, a newborn , and a techno please. I promise if you give me these things I will give you very yummy cookies and chocolate milk : 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ve you Santa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rooklyn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5943600" cy="8229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09800" y="1695600"/>
            <a:ext cx="4514760" cy="4686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Dear San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I want a Hot Wheels fire ball.   I  also want  Roborapter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an you also get my  Wall/e . My sister wants ponyvi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           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From,  Co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371600" y="3352680"/>
            <a:ext cx="35434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5508720" cy="7246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5800" y="1752480"/>
            <a:ext cx="4686480" cy="58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3300"/>
                </a:solidFill>
                <a:latin typeface="Times New Roman"/>
              </a:rPr>
              <a:t>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Jonathan’s Christmas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ear San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  am 6 and I would like a sour patch kids candy.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 would also like Hot wheels fire ball, and a Nerf  laser gun.  The incredible Hulk smash hands it also comes with a mask.  A Batman  Transformer car and it also comes with Batman’s motorcycle and the Joker. I would also like a cubies rug. 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 Nerf N Strike Long Shot gun.  A electronic dog that does everything I sa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52480" y="6934320"/>
            <a:ext cx="299556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5557680" cy="7277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90720" y="2743200"/>
            <a:ext cx="4029120" cy="40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r San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I want a baby doll nursery set, A high chair, dolls and a stroller and                       2  nuggleki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From Hil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I live in So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Bend Ind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66680" y="7391520"/>
            <a:ext cx="1171800" cy="885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066680" y="4952880"/>
            <a:ext cx="10065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5349960" cy="7658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52480" y="3181320"/>
            <a:ext cx="3143520" cy="38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D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e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a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S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a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n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t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C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l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a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u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s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e</a:t>
            </a:r>
            <a:r>
              <a:rPr b="1" lang="en-US" sz="1600" spc="-1" strike="noStrike">
                <a:solidFill>
                  <a:srgbClr val="00ffff"/>
                </a:solidFill>
                <a:latin typeface="Tempus Sans ITC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H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I</a:t>
            </a:r>
            <a:r>
              <a:rPr b="1" lang="en-US" sz="1600" spc="-1" strike="noStrike">
                <a:solidFill>
                  <a:srgbClr val="00ffff"/>
                </a:solidFill>
                <a:latin typeface="Tempus Sans ITC"/>
              </a:rPr>
              <a:t>! 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M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y 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n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a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m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e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i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s 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L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i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z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z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i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e 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a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n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d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a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m 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5 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y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e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a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r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o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l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d</a:t>
            </a:r>
            <a:r>
              <a:rPr b="1" lang="en-US" sz="1600" spc="-1" strike="noStrike">
                <a:solidFill>
                  <a:srgbClr val="00ffff"/>
                </a:solidFill>
                <a:latin typeface="Tempus Sans ITC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I 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l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i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v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e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i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n 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S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o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u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t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h 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B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e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n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d</a:t>
            </a:r>
            <a:r>
              <a:rPr b="1" lang="en-US" sz="1600" spc="-1" strike="noStrike">
                <a:solidFill>
                  <a:srgbClr val="00ffff"/>
                </a:solidFill>
                <a:latin typeface="Tempus Sans ITC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I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n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d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i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a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n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w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i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t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h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m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y 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M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o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m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m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y</a:t>
            </a:r>
            <a:r>
              <a:rPr b="1" lang="en-US" sz="1600" spc="-1" strike="noStrike">
                <a:solidFill>
                  <a:srgbClr val="00ffff"/>
                </a:solidFill>
                <a:latin typeface="Tempus Sans ITC"/>
              </a:rPr>
              <a:t>, 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D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a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d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d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y</a:t>
            </a:r>
            <a:r>
              <a:rPr b="1" lang="en-US" sz="1600" spc="-1" strike="noStrike">
                <a:solidFill>
                  <a:srgbClr val="00ffff"/>
                </a:solidFill>
                <a:latin typeface="Tempus Sans ITC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a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n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d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m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y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b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i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b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r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o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t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h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e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J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a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c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o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b</a:t>
            </a:r>
            <a:r>
              <a:rPr b="1" lang="en-US" sz="1600" spc="-1" strike="noStrike">
                <a:solidFill>
                  <a:srgbClr val="00ffff"/>
                </a:solidFill>
                <a:latin typeface="Tempus Sans ITC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T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h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i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s 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y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e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a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r 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I 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w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o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u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l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d 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l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i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k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e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t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o 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g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e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t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a 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n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e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w 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D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i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s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n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e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y 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P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r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i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n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c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e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s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s 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D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o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l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l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w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i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t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h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a 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p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i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n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k 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S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l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e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e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p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i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n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B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e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a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u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t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y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d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r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e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s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a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n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d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I 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w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o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u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l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d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a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l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s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l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i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k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e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n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e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w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B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a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b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y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D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o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l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l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P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l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e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a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s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e</a:t>
            </a:r>
            <a:r>
              <a:rPr b="1" lang="en-US" sz="1600" spc="-1" strike="noStrike">
                <a:solidFill>
                  <a:srgbClr val="00ffff"/>
                </a:solidFill>
                <a:latin typeface="Tempus Sans ITC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T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h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a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n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k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Y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o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u</a:t>
            </a:r>
            <a:r>
              <a:rPr b="1" lang="en-US" sz="1600" spc="-1" strike="noStrike">
                <a:solidFill>
                  <a:srgbClr val="00ffff"/>
                </a:solidFill>
                <a:latin typeface="Tempus Sans ITC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Y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o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u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F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r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i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e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n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d</a:t>
            </a:r>
            <a:r>
              <a:rPr b="1" lang="en-US" sz="1600" spc="-1" strike="noStrike">
                <a:solidFill>
                  <a:srgbClr val="00ffff"/>
                </a:solidFill>
                <a:latin typeface="Tempus Sans ITC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L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i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z</a:t>
            </a:r>
            <a:r>
              <a:rPr b="1" lang="en-US" sz="1600" spc="-1" strike="noStrike">
                <a:solidFill>
                  <a:srgbClr val="ff3399"/>
                </a:solidFill>
                <a:latin typeface="Tempus Sans ITC"/>
              </a:rPr>
              <a:t>z</a:t>
            </a:r>
            <a:r>
              <a:rPr b="1" lang="en-US" sz="1600" spc="-1" strike="noStrike">
                <a:solidFill>
                  <a:srgbClr val="cc66ff"/>
                </a:solidFill>
                <a:latin typeface="Tempus Sans ITC"/>
              </a:rPr>
              <a:t>i</a:t>
            </a:r>
            <a:r>
              <a:rPr b="1" lang="en-US" sz="1600" spc="-1" strike="noStrike">
                <a:solidFill>
                  <a:srgbClr val="00cc00"/>
                </a:solidFill>
                <a:latin typeface="Tempus Sans ITC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5349960" cy="7657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81160" y="2990880"/>
            <a:ext cx="3543120" cy="46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howcard Gothic"/>
              </a:rPr>
              <a:t> </a:t>
            </a:r>
            <a:r>
              <a:rPr b="0" lang="en-US" sz="1800" spc="-1" strike="noStrike">
                <a:solidFill>
                  <a:srgbClr val="ff6600"/>
                </a:solidFill>
                <a:latin typeface="Showcard Gothic"/>
              </a:rPr>
              <a:t>Dear San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Showcard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Showcard Gothic"/>
              </a:rPr>
              <a:t> </a:t>
            </a:r>
            <a:r>
              <a:rPr b="0" lang="en-US" sz="1600" spc="-1" strike="noStrike">
                <a:solidFill>
                  <a:srgbClr val="0fb960"/>
                </a:solidFill>
                <a:latin typeface="Showcard Gothic"/>
              </a:rPr>
              <a:t>My name is Jacob I live  in Indiana and This year for Christmas I   would lik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b960"/>
                </a:solidFill>
                <a:latin typeface="Showcard Gothic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Showcard Gothic"/>
              </a:rPr>
              <a:t>  </a:t>
            </a:r>
            <a:r>
              <a:rPr b="0" lang="en-US" sz="1800" spc="-1" strike="noStrike">
                <a:solidFill>
                  <a:srgbClr val="ff6600"/>
                </a:solidFill>
                <a:latin typeface="Showcard Gothic"/>
              </a:rPr>
              <a:t>Bionic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Showcard Gothic"/>
              </a:rPr>
              <a:t>  </a:t>
            </a:r>
            <a:r>
              <a:rPr b="0" lang="en-US" sz="1800" spc="-1" strike="noStrike">
                <a:solidFill>
                  <a:srgbClr val="ff6600"/>
                </a:solidFill>
                <a:latin typeface="Showcard Gothic"/>
              </a:rPr>
              <a:t>Ag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Showcard Gothic"/>
              </a:rPr>
              <a:t>  </a:t>
            </a:r>
            <a:r>
              <a:rPr b="0" lang="en-US" sz="1800" spc="-1" strike="noStrike">
                <a:solidFill>
                  <a:srgbClr val="ff6600"/>
                </a:solidFill>
                <a:latin typeface="Showcard Gothic"/>
              </a:rPr>
              <a:t>Kir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Showcard Gothic"/>
              </a:rPr>
              <a:t>  </a:t>
            </a:r>
            <a:r>
              <a:rPr b="0" lang="en-US" sz="1800" spc="-1" strike="noStrike">
                <a:solidFill>
                  <a:srgbClr val="ff6600"/>
                </a:solidFill>
                <a:latin typeface="Showcard Gothic"/>
              </a:rPr>
              <a:t>Star wa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Showcard Gothic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Showcard Gothic"/>
              </a:rPr>
              <a:t>                                    </a:t>
            </a:r>
            <a:r>
              <a:rPr b="0" lang="en-US" sz="1800" spc="-1" strike="noStrike">
                <a:solidFill>
                  <a:srgbClr val="0fb960"/>
                </a:solidFill>
                <a:latin typeface="Showcard Gothic"/>
              </a:rPr>
              <a:t>Your p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b960"/>
                </a:solidFill>
                <a:latin typeface="Showcard Gothic"/>
              </a:rPr>
              <a:t>                                                </a:t>
            </a:r>
            <a:r>
              <a:rPr b="0" lang="en-US" sz="1800" spc="-1" strike="noStrike">
                <a:solidFill>
                  <a:srgbClr val="0fb960"/>
                </a:solidFill>
                <a:latin typeface="Showcard Gothic"/>
              </a:rPr>
              <a:t>Jaco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5508720" cy="7247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28880" y="2324160"/>
            <a:ext cx="44575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irst-Grader"/>
              </a:rPr>
              <a:t>Dear Sant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irst-Grader"/>
              </a:rPr>
              <a:t>I have been a good boy. How are the reindeer. This is what I wa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irst-Grader"/>
              </a:rPr>
              <a:t>Rocket , air land and sea play s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irst-Grader"/>
              </a:rPr>
              <a:t>From B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irst-Grader"/>
              </a:rPr>
              <a:t>South bend, IN Kings way D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649680" y="5981760"/>
            <a:ext cx="1677960" cy="1714320"/>
          </a:xfrm>
          <a:prstGeom prst="rect">
            <a:avLst/>
          </a:prstGeom>
          <a:ln w="0">
            <a:noFill/>
          </a:ln>
        </p:spPr>
      </p:pic>
      <p:pic>
        <p:nvPicPr>
          <p:cNvPr id="99" name="Xmas 9" descr=""/>
          <p:cNvPicPr/>
          <p:nvPr/>
        </p:nvPicPr>
        <p:blipFill>
          <a:blip r:embed="rId3"/>
          <a:stretch/>
        </p:blipFill>
        <p:spPr>
          <a:xfrm>
            <a:off x="1257480" y="6095880"/>
            <a:ext cx="1176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5543640" cy="7548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438200" y="2009880"/>
            <a:ext cx="3895920" cy="42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nap ITC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Snap ITC"/>
              </a:rPr>
              <a:t>Dear Santa Clau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Snap ITC"/>
              </a:rPr>
              <a:t>  </a:t>
            </a:r>
            <a:r>
              <a:rPr b="0" lang="en-US" sz="1200" spc="-1" strike="noStrike">
                <a:solidFill>
                  <a:srgbClr val="0000ff"/>
                </a:solidFill>
                <a:latin typeface="Snap ITC"/>
              </a:rPr>
              <a:t>My name is Zachary, My sisters name is  Allison. I am 6. I love you Santa Cla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Snap ITC"/>
              </a:rPr>
              <a:t>                      </a:t>
            </a:r>
            <a:r>
              <a:rPr b="0" lang="en-US" sz="1200" spc="-1" strike="noStrike">
                <a:solidFill>
                  <a:srgbClr val="ff6600"/>
                </a:solidFill>
                <a:latin typeface="Snap ITC"/>
              </a:rPr>
              <a:t>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Snap ITC"/>
              </a:rPr>
              <a:t> </a:t>
            </a:r>
            <a:r>
              <a:rPr b="0" lang="en-US" sz="1200" spc="-1" strike="noStrike">
                <a:solidFill>
                  <a:srgbClr val="ffcc00"/>
                </a:solidFill>
                <a:latin typeface="Snap ITC"/>
              </a:rPr>
              <a:t>Rodoraptor</a:t>
            </a:r>
            <a:r>
              <a:rPr b="0" lang="en-US" sz="1200" spc="-1" strike="noStrike">
                <a:solidFill>
                  <a:srgbClr val="000000"/>
                </a:solidFill>
                <a:latin typeface="Snap ITC"/>
              </a:rPr>
              <a:t>,</a:t>
            </a:r>
            <a:r>
              <a:rPr b="0" lang="en-US" sz="1200" spc="-1" strike="noStrike">
                <a:solidFill>
                  <a:srgbClr val="ffcc00"/>
                </a:solidFill>
                <a:latin typeface="Snap ITC"/>
              </a:rPr>
              <a:t>Ben 10 omnitrix ELD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447920" y="3505320"/>
            <a:ext cx="370512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0280" y="380880"/>
            <a:ext cx="6402600" cy="8382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66680" y="2209680"/>
            <a:ext cx="3886200" cy="37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2571840"/>
            <a:ext cx="3943440" cy="65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Dear Sa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My name is Cade. I am 6 years old. I live in South Bend, Indiana. I would like a Jeff hardy action figure, Star Wars the clone wars the Video game for the Wii, a blade Star Space Ship, a remote control Walle, and Guitar Hero 3 Legends of Rock for Play station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From, Cade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5943600" cy="8763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2220840"/>
            <a:ext cx="4114800" cy="52704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Goudy Stout"/>
              </a:rPr>
              <a:t>Dear sant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Goudy Stout"/>
              </a:rPr>
              <a:t>For Christmas I would like talking nursery and leap frog! I have been really good this year. Thank you!!! Can you please bring what I want for christmas this year. I live in  gRanger IN. my favorite color is green!!! I am 5 years ol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Goudy Stout"/>
              </a:rPr>
              <a:t>Lov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Goudy Stout"/>
              </a:rPr>
              <a:t>Kiern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flipH="1">
            <a:off x="4038120" y="4952880"/>
            <a:ext cx="973080" cy="9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5943600" cy="8229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6680" y="2895480"/>
            <a:ext cx="4343400" cy="468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2971800"/>
            <a:ext cx="441972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olt w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pcake ma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cking ho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toy wall-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uffed ze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lives in South B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143000" y="1943280"/>
            <a:ext cx="5105520" cy="99036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enevieve's Christmas list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4686480" y="3086280"/>
            <a:ext cx="914400" cy="1143000"/>
          </a:xfrm>
          <a:custGeom>
            <a:avLst/>
            <a:gdLst>
              <a:gd name="textAreaLeft" fmla="*/ 214920 w 914400"/>
              <a:gd name="textAreaRight" fmla="*/ 699120 w 914400"/>
              <a:gd name="textAreaTop" fmla="*/ 134280 h 1143000"/>
              <a:gd name="textAreaBottom" fmla="*/ 717120 h 1143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120" y="7010280"/>
            <a:ext cx="171432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80880" y="380880"/>
            <a:ext cx="4114800" cy="87660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Dear Santa,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95280"/>
            <a:ext cx="4724280" cy="70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or Christmas I would like a jeep, Idog Dance, a prom or graduation doll,  all High School Musical dolls, and a Disney Princess 7-d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incerel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olly Burnham South Bend, India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 flipH="1">
            <a:off x="380520" y="7162920"/>
            <a:ext cx="5953320" cy="1644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876920" y="228600"/>
            <a:ext cx="1676160" cy="1828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876920" y="3200400"/>
            <a:ext cx="172404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1600200" y="0"/>
            <a:ext cx="777240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r Sant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ant transformers, star wars, more transformers, 4 transfor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Jake. My phone number is 233-251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5410080"/>
            <a:ext cx="3020760" cy="3276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Free Movies Wallpaper : Transformers - Bumblebee"/>
          <p:cNvPicPr/>
          <p:nvPr/>
        </p:nvPicPr>
        <p:blipFill>
          <a:blip r:embed="rId2"/>
          <a:stretch/>
        </p:blipFill>
        <p:spPr>
          <a:xfrm>
            <a:off x="3505320" y="6400800"/>
            <a:ext cx="2819160" cy="2114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886200" y="3657600"/>
            <a:ext cx="240984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6276960" cy="8498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257480" y="1981080"/>
            <a:ext cx="37144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cc"/>
                </a:solidFill>
                <a:latin typeface="Snap ITC"/>
              </a:rPr>
              <a:t>  </a:t>
            </a: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Dear San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My name is Anna and this is my wish l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1. Disney Prin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2.Hannah Montana doll ho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I have a sister named Isabella. I also have a dog named Griffin and a cat named Zoey. My sister has a cat named Ginger. She always runs away. I would also like to ask you what your reindeer look like. Can you send me a picture of one 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that I know what th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look like</a:t>
            </a:r>
            <a:r>
              <a:rPr b="1" lang="en-US" sz="1800" spc="-1" strike="noStrike">
                <a:solidFill>
                  <a:srgbClr val="ff66cc"/>
                </a:solidFill>
                <a:latin typeface="Adolescenc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038480" y="5867280"/>
            <a:ext cx="190512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5425920" cy="7602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79440" y="1562040"/>
            <a:ext cx="3714840" cy="56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MT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doni MT Black"/>
              </a:rPr>
              <a:t>Dear San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doni MT Black"/>
              </a:rPr>
              <a:t>My name is Alli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doni MT Black"/>
              </a:rPr>
              <a:t>I live in South Bend, 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doni MT Black"/>
              </a:rPr>
              <a:t>I would like a High School Musical Doll Ho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doni MT Black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Bodoni MT Black"/>
              </a:rPr>
              <a:t>Thanks a lo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doni MT Black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Bodoni MT Black"/>
              </a:rPr>
              <a:t>Lov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doni MT Black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doni MT Black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Bodoni MT Black"/>
              </a:rPr>
              <a:t>Alli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5508360" cy="7737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12680" y="2117880"/>
            <a:ext cx="4629240" cy="5543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072a"/>
                </a:solidFill>
                <a:latin typeface="Bitstream Vera Serif"/>
              </a:rPr>
              <a:t>Dear San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072a"/>
                </a:solidFill>
                <a:latin typeface="Bitstream Vera Serif"/>
              </a:rPr>
              <a:t>    </a:t>
            </a:r>
            <a:r>
              <a:rPr b="0" lang="en-US" sz="2800" spc="-1" strike="noStrike">
                <a:solidFill>
                  <a:srgbClr val="f9072a"/>
                </a:solidFill>
                <a:latin typeface="Bitstream Vera Serif"/>
              </a:rPr>
              <a:t>My name is J.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072a"/>
                </a:solidFill>
                <a:latin typeface="Bitstream Vera Serif"/>
              </a:rPr>
              <a:t>and I live in South B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072a"/>
                </a:solidFill>
                <a:latin typeface="Bitstream Vera Serif"/>
              </a:rPr>
              <a:t>I would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072a"/>
              </a:buClr>
              <a:buSzPct val="3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072a"/>
                </a:solidFill>
                <a:latin typeface="Bitstream Vera Serif"/>
              </a:rPr>
              <a:t>A Poke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072a"/>
              </a:buClr>
              <a:buSzPct val="3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072a"/>
                </a:solidFill>
                <a:latin typeface="Bitstream Vera Serif"/>
              </a:rPr>
              <a:t>An Indiana Jones t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9072a"/>
              </a:buClr>
              <a:buSzPct val="3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072a"/>
                </a:solidFill>
                <a:latin typeface="Bitstream Vera Serif"/>
              </a:rPr>
              <a:t>Hot Whe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072a"/>
                </a:solidFill>
                <a:latin typeface="Bitstream Vera Serif"/>
              </a:rPr>
              <a:t>Thank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9:06:14Z</dcterms:created>
  <dc:creator>Patrick Mooney</dc:creator>
  <dc:description/>
  <dc:language>en-US</dc:language>
  <cp:lastModifiedBy>Patrick Mooney</cp:lastModifiedBy>
  <dcterms:modified xsi:type="dcterms:W3CDTF">2008-12-15T13:27:01Z</dcterms:modified>
  <cp:revision>26</cp:revision>
  <dc:subject/>
  <dc:title>Slide 1</dc:title>
</cp:coreProperties>
</file>